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46F7-DE9C-4755-AC17-B42EF4B7F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0FAB-EC35-433F-80A4-31CAECB7C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C23F-51B6-4B53-A111-27D304080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9E61-60DD-4359-AB18-FC6F8B192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6D2A-D59E-467F-BE8C-38C723CCE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6BFF-C828-4EAF-A341-2FCFC3F00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F57-A4BC-4110-BFBE-CCFA4BFE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030-A226-43D5-92D0-36969018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3CB-C8E5-4B34-91DF-7B543899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21A-CD9F-458C-9A0B-F04CBFBA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B09-69F1-4A52-B29A-0BB099FB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73F-1DCB-48DF-B823-4F7B26B1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E07-B202-4346-9FDC-CEC4C1C6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855-9782-4FD6-AD4A-5CC45BBF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00C-AE01-4071-A468-523DEDEF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796-B7E4-4FED-A3DE-EDC98B86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5F9-60EB-4F81-9465-E15F7CD4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B4A-5A72-4468-8C02-CE6A2E83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64C9-6CB2-42B3-8A1B-87F7243AC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ED 52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&amp; Scienc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ed 521 Math &amp; Scienc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re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752480" y="4495680"/>
            <a:ext cx="5715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ow do children learn?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449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learn in order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problems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nstruct patterns and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through experie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in order to reduce the cognitive complexity of our li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patterns that encompass particula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your math curriculum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t in Detroi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nce 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 of mar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z d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wooden poles 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ld c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 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ree li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she left behind a wooden door, a box of newspapers, a 5-gallon can of gasoline, a bunch of tires and an AM radio from an old For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ird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ron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aluminum 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 ax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garbage cans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icture 1.png"/>
          <p:cNvPicPr/>
          <p:nvPr/>
        </p:nvPicPr>
        <p:blipFill>
          <a:blip r:embed="rId1"/>
          <a:stretch/>
        </p:blipFill>
        <p:spPr>
          <a:xfrm>
            <a:off x="4638600" y="4498920"/>
            <a:ext cx="1712880" cy="260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657600" y="1143000"/>
            <a:ext cx="5283360" cy="2971800"/>
          </a:xfrm>
          <a:prstGeom prst="rect">
            <a:avLst/>
          </a:prstGeom>
          <a:ln w="12600">
            <a:solidFill>
              <a:srgbClr val="b3b3b3"/>
            </a:solidFill>
            <a:miter/>
          </a:ln>
          <a:effectLst>
            <a:outerShdw dist="101520" dir="5400000" blurRad="0" rotWithShape="0">
              <a:srgbClr val="808080">
                <a:alpha val="4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251320" y="1447920"/>
            <a:ext cx="3892680" cy="2590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 of the ses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do in k-8 math? 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sp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5168880" y="4784760"/>
            <a:ext cx="2043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2:01:12Z</dcterms:created>
  <dc:creator>Seattle University</dc:creator>
  <dc:description/>
  <dc:language>en-US</dc:language>
  <cp:lastModifiedBy>Mark Roddy</cp:lastModifiedBy>
  <cp:lastPrinted>2008-03-04T19:40:59Z</cp:lastPrinted>
  <dcterms:modified xsi:type="dcterms:W3CDTF">2014-03-04T21:15:46Z</dcterms:modified>
  <cp:revision>15</cp:revision>
  <dc:subject/>
  <dc:title>TEED 521 Math &amp; Science Methods</dc:title>
</cp:coreProperties>
</file>